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DBFA-8121-4763-9C73-835E79EB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D3-C13C-4574-842B-FE164D87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5F6-1981-45E6-9ACE-394591FE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40F-84B2-4C1E-8B97-5A189804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F930-CF0D-40B2-AAD8-7F640D94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0E9D-2A2C-4B01-A7F0-5608A76B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CEB5-639E-4472-BC0D-AA6AF320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308C-7403-452A-8C1B-51EC3D5E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F64F-2F91-44BD-ABEE-471A37D6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41F6-9519-4C34-9384-CF5B4A1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4AE0-64B8-4FEB-B5EC-931587F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E953-D8C3-4743-944B-1F95B218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CED9-81B0-4DB9-ADF0-BB3079E5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6969-EBEA-47AD-81A6-EA37B7E3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B29-C53B-4504-B333-6DAFCBAA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3CAE-CE08-4E05-B190-B51E3C62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CE5-7764-4B30-B0F0-73060153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788B-A70F-4DCB-A2EB-78BEA001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C9AB-BBBF-45EF-94ED-337B8185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1D3D-5146-477B-8278-89C75265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3CE-3A98-4FEB-87C4-B4916893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C9E-F1F3-487E-8567-F8BFA9B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765-6E6B-4230-A146-E5F5637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2F9-B067-4F7A-827B-ADD4D2EB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D094-5D6D-4A2A-9F0F-CFB216AF27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0CA6-3A99-44ED-BD69-4E98D8DD33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6560" y="5867280"/>
            <a:ext cx="78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nformal Justice Systems in Other Societi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Canada, the justice system is highly impers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other cultures personal relationships and maintaining social harmony are much more important in the justice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480" y="914400"/>
            <a:ext cx="2784600" cy="2971800"/>
            <a:chOff x="5181480" y="914400"/>
            <a:chExt cx="2784600" cy="29718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181480" y="914400"/>
              <a:ext cx="27846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 txBox="1"/>
            <p:nvPr/>
          </p:nvSpPr>
          <p:spPr>
            <a:xfrm>
              <a:off x="5181480" y="914400"/>
              <a:ext cx="27846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30099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Informal Justice System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7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boriginal communities emphasi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ealing offen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righting the conditions that led to the off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integrating the offender back into the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9880" y="914400"/>
            <a:ext cx="4648320" cy="453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13840" y="5334120"/>
            <a:ext cx="4867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community is of primary importance. Within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ty, each person had his or her role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ibilities, each of equal value to one an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Kpelle culture of Africa (central Liberia and Guinea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Gibbs’ study of the legal system in 1957 and 19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Arial"/>
              </a:rPr>
              <a:t>Patrilineal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ulture (inherit through the male li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opulation 175 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wo branches – formal and in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Formal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court handles assault, possession of illegal charms and theft involving unrelated litig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formal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court or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moo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s an informal airing of disputes before an assembled group (Includes the complainant, the accused, neighbours, other family members and a mediator selected by the complain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Factors which make the moot successfu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Proceedings, although “spirited”, were orderly and open, anyone could speak and felt like they had been he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l felt like they had an impact on the re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he faults of both parties were pointed out therefore allowing those at fault to save face, not labell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48320" y="1905120"/>
            <a:ext cx="4038480" cy="2971800"/>
            <a:chOff x="4648320" y="1905120"/>
            <a:chExt cx="4038480" cy="297180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4648320" y="1905120"/>
              <a:ext cx="40384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4648320" y="1905120"/>
              <a:ext cx="403848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728600" y="51814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Read page106 of text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1.  </a:t>
            </a:r>
            <a:r>
              <a:rPr b="1" lang="en-CA" sz="4000" spc="-1" strike="noStrike">
                <a:solidFill>
                  <a:srgbClr val="006633"/>
                </a:solidFill>
                <a:latin typeface="Garamond"/>
              </a:rPr>
              <a:t>The Power of the Police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Approximately 1 police officer for every 475 Canadi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100" spc="-1" strike="noStrike">
                <a:solidFill>
                  <a:srgbClr val="000000"/>
                </a:solidFill>
                <a:latin typeface="Arial"/>
              </a:rPr>
              <a:t>Studies of police behaviour tell us 6 factors influence police behavi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how serious the police perceive the situation to be - more serious =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what the police believe the victim w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amount of co-operation the suspect offers- unco-operative suspects tend to get arrest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olice's history with the suspect- prior negative contact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presence of bystanders- more likely to arr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Race - more likely to arrest people of col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olice Behaviour and R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ile this study was conducted in the U.S. we know that in On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lack people are imprisoned at 5 times the rate for whi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boriginal people are jailed at 3 times the rate for white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ews Rep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://www.cbc.ca/news/background/racial_profilin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cial Profi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il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sts when the members of a particular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ethnic group become subject to greater criminal justice or institutional surveillance than other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il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sts whe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racteristics - rather than behaviour – contributes to surveillance deci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4959000" y="914400"/>
            <a:ext cx="3972600" cy="916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Toronto residents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been stopped by polic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occasions in the past 2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5943600"/>
            <a:ext cx="8534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 Scot Wortley, CERIS – Justice Domain Lead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e of Criminolog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2. The Number of Pris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Between 1987 and 1997, the total correctional population increased by 44% (Canadian Centre for Justice Statistics 199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2001, there were 34 000 inmates in Canada (Linden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115: 100 000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uch higher than in Western Europe, but lower than the U.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Prison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verage cost of keeping an offen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 a federal penitentiary is $50 000 to $65 000 a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halfway house - $33 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arole - $9000 (Solicitor General Canada 2001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 1995-9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77% of the total caseload was outside of p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nly 12% of all correctional spending was for community supervision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Issues in Canadian Criminal Justice </a:t>
            </a:r>
            <a:br>
              <a:rPr sz="3800"/>
            </a:b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3. Rehabilitation or Radical Reform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ome sociologists argue that we should abandon our current criminal justice system, particularly pris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only protect the public temporari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o little to reshape offenders attitudes or behavi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engthens criminal attitudes and skills by 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vers social ties with the outside world which makes it </a:t>
            </a: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likely that individuals will re-off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Unit 3 Social Institu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142236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 in the course we have been focu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034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2362320"/>
            <a:ext cx="2895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s that influence and shape human behaviou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ge, gender, mental illness, ethnicity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2362320"/>
            <a:ext cx="28954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 are socialized (agents of socializ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amily, school, peers, media, workplace, relig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742840" y="19051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905120"/>
            <a:ext cx="1447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5880" y="4038480"/>
            <a:ext cx="78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 a nutshell, the forces within our self (nature), and in others (nur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5181480"/>
            <a:ext cx="4876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3 Task -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how the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forces fit into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648320"/>
            <a:ext cx="297180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86400"/>
            <a:ext cx="2971800" cy="5335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34120" y="49525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53341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habilitation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rime rates are high in late teens and early twenties and fall steeply among ol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st taxpayers' money is going towards warehousing a diminishing crime th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must intervene in the lives of young people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ey break the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.g. restrict the unsupervised activities of tee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49760" y="1600200"/>
          <a:ext cx="403560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9760" y="1600200"/>
                    <a:ext cx="403560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066680" y="990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0000"/>
                </a:solidFill>
                <a:uFillTx/>
                <a:latin typeface="Arial"/>
              </a:rPr>
              <a:t>Hirschi'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nalysis of criminal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8120" y="5943600"/>
            <a:ext cx="4388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offenders admitted to Federal Custod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a. 1995-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habilitation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ong link between criminal behaviour and low self-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eaching children self-control at an early age will reduce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vocates strong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arget funds and assistance to seriously dysfunctional fami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ducing teen pregnancy alone would reduce crime more effectively than all the current criminal justice programs comb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at are social Institution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cial Institutions are social structures in a society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hape values and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aintain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elp society to function efficiently</a:t>
            </a: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3124080"/>
            <a:ext cx="3276360" cy="2133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5680" y="3124080"/>
            <a:ext cx="3276720" cy="21337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952880"/>
            <a:ext cx="22446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1600" y="4952880"/>
            <a:ext cx="24638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l 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6120" y="54100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cause they affect lar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ups of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9400" y="5486400"/>
            <a:ext cx="25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ffect individual’s l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Characteristics of Social Institution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903200" y="2776680"/>
            <a:ext cx="3381120" cy="3379680"/>
            <a:chOff x="4903200" y="2776680"/>
            <a:chExt cx="3381120" cy="3379680"/>
          </a:xfrm>
        </p:grpSpPr>
        <p:sp>
          <p:nvSpPr>
            <p:cNvPr id="112" name="_s14342"/>
            <p:cNvSpPr/>
            <p:nvPr/>
          </p:nvSpPr>
          <p:spPr>
            <a:xfrm flipH="1" flipV="1">
              <a:off x="5995440" y="3868560"/>
              <a:ext cx="296280" cy="29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4343"/>
            <p:cNvSpPr/>
            <p:nvPr/>
          </p:nvSpPr>
          <p:spPr>
            <a:xfrm>
              <a:off x="5273280" y="3149640"/>
              <a:ext cx="844200" cy="843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Legal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4344"/>
            <p:cNvSpPr/>
            <p:nvPr/>
          </p:nvSpPr>
          <p:spPr>
            <a:xfrm flipH="1">
              <a:off x="5749920" y="4464000"/>
              <a:ext cx="42048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4345"/>
            <p:cNvSpPr/>
            <p:nvPr/>
          </p:nvSpPr>
          <p:spPr>
            <a:xfrm>
              <a:off x="4903200" y="404568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Govern-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346"/>
            <p:cNvSpPr/>
            <p:nvPr/>
          </p:nvSpPr>
          <p:spPr>
            <a:xfrm flipH="1">
              <a:off x="5995800" y="4763160"/>
              <a:ext cx="298800" cy="29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4347"/>
            <p:cNvSpPr/>
            <p:nvPr/>
          </p:nvSpPr>
          <p:spPr>
            <a:xfrm>
              <a:off x="5275800" y="494244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litar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4348"/>
            <p:cNvSpPr/>
            <p:nvPr/>
          </p:nvSpPr>
          <p:spPr>
            <a:xfrm>
              <a:off x="6591240" y="4884120"/>
              <a:ext cx="2160" cy="42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349"/>
            <p:cNvSpPr/>
            <p:nvPr/>
          </p:nvSpPr>
          <p:spPr>
            <a:xfrm>
              <a:off x="6172920" y="5313240"/>
              <a:ext cx="844200" cy="8431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4350"/>
            <p:cNvSpPr/>
            <p:nvPr/>
          </p:nvSpPr>
          <p:spPr>
            <a:xfrm>
              <a:off x="6890040" y="4760280"/>
              <a:ext cx="29916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351"/>
            <p:cNvSpPr/>
            <p:nvPr/>
          </p:nvSpPr>
          <p:spPr>
            <a:xfrm>
              <a:off x="7070040" y="493992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4352"/>
            <p:cNvSpPr/>
            <p:nvPr/>
          </p:nvSpPr>
          <p:spPr>
            <a:xfrm>
              <a:off x="7011720" y="4464000"/>
              <a:ext cx="42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353"/>
            <p:cNvSpPr/>
            <p:nvPr/>
          </p:nvSpPr>
          <p:spPr>
            <a:xfrm>
              <a:off x="7440840" y="404352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hurch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4354"/>
            <p:cNvSpPr/>
            <p:nvPr/>
          </p:nvSpPr>
          <p:spPr>
            <a:xfrm flipV="1">
              <a:off x="6887520" y="3866400"/>
              <a:ext cx="301680" cy="30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355"/>
            <p:cNvSpPr/>
            <p:nvPr/>
          </p:nvSpPr>
          <p:spPr>
            <a:xfrm>
              <a:off x="7067520" y="3146760"/>
              <a:ext cx="84348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e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4356"/>
            <p:cNvSpPr/>
            <p:nvPr/>
          </p:nvSpPr>
          <p:spPr>
            <a:xfrm flipV="1">
              <a:off x="6591240" y="3617280"/>
              <a:ext cx="0" cy="42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357"/>
            <p:cNvSpPr/>
            <p:nvPr/>
          </p:nvSpPr>
          <p:spPr>
            <a:xfrm>
              <a:off x="6170400" y="2776680"/>
              <a:ext cx="844200" cy="8438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4358"/>
            <p:cNvSpPr/>
            <p:nvPr/>
          </p:nvSpPr>
          <p:spPr>
            <a:xfrm>
              <a:off x="6170400" y="4045680"/>
              <a:ext cx="844200" cy="843840"/>
            </a:xfrm>
            <a:prstGeom prst="ellipse">
              <a:avLst/>
            </a:prstGeom>
            <a:solidFill>
              <a:srgbClr val="afbf3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ociety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457200" y="11430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usually existed for a lo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well established or entrenched patterns of functioning (change usually occurs slow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ve a specific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embers are joined together by shared values and bel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657600"/>
            <a:ext cx="403848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Purposes of Soc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6633"/>
                </a:solidFill>
                <a:latin typeface="Garamond"/>
              </a:rPr>
              <a:t>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ct as an agent of soci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intain order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t 3 Question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re Canada's social institutions successful according to the above definitio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iscuss using examp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Criminal Justice Syste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All societies need to have mechanisms for social contr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438280"/>
            <a:ext cx="914400" cy="9144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J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3429000"/>
            <a:ext cx="4114800" cy="274320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ensure that individu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behave in acceptable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3429000"/>
            <a:ext cx="4114800" cy="274320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11480" y="4191120"/>
            <a:ext cx="400788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 determine what happ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en individuals break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200040" y="32004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32004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Canada's Formal Justice System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Component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286000"/>
            <a:ext cx="2438280" cy="838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Law Enfor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167652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hend / arrest crimi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36232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971800"/>
            <a:ext cx="29718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vent c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200400" y="1981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27432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733920"/>
            <a:ext cx="2438640" cy="16761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he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sarial – law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ing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ndant comp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r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ecu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114800"/>
            <a:ext cx="2971800" cy="83808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cess people char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police with a cr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7672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297180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05120" y="5410080"/>
            <a:ext cx="485640" cy="747720"/>
          </a:xfrm>
          <a:prstGeom prst="downArrow">
            <a:avLst>
              <a:gd name="adj1" fmla="val 50000"/>
              <a:gd name="adj2" fmla="val 3849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Canada's Formal Justice System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3</a:t>
            </a:r>
            <a:r>
              <a:rPr b="1" lang="en-CA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Components (</a:t>
            </a:r>
            <a:r>
              <a:rPr b="0" i="1" lang="en-CA" sz="3800" spc="-1" strike="noStrike">
                <a:solidFill>
                  <a:srgbClr val="006633"/>
                </a:solidFill>
                <a:latin typeface="Garamond"/>
              </a:rPr>
              <a:t>continued</a:t>
            </a:r>
            <a:r>
              <a:rPr b="0" lang="en-CA" sz="38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124080"/>
            <a:ext cx="2438280" cy="12193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676520"/>
            <a:ext cx="2514600" cy="121896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 Punish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, o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icted by the cou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124080"/>
            <a:ext cx="2514600" cy="1828800"/>
          </a:xfrm>
          <a:prstGeom prst="rect">
            <a:avLst/>
          </a:prstGeom>
          <a:solidFill>
            <a:srgbClr val="bf9c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)  Rehabili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 choose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-offend due to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cceptan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ety’s n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105520"/>
            <a:ext cx="2514600" cy="1066680"/>
          </a:xfrm>
          <a:prstGeom prst="rect">
            <a:avLst/>
          </a:prstGeom>
          <a:solidFill>
            <a:srgbClr val="c072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) To prot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y jailing vio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nd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32680" y="2017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371600"/>
            <a:ext cx="2514600" cy="2286000"/>
          </a:xfrm>
          <a:prstGeom prst="rect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bution: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n ey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ciety’s des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ocie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66880" y="2590920"/>
            <a:ext cx="6858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3809880"/>
            <a:ext cx="7621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1125720" y="237888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200" spc="-1" strike="noStrike">
                <a:solidFill>
                  <a:srgbClr val="006633"/>
                </a:solidFill>
                <a:latin typeface="Garamond"/>
              </a:rPr>
              <a:t>Rehabilitation</a:t>
            </a:r>
            <a:r>
              <a:rPr b="0" lang="en-CA" sz="4200" spc="-1" strike="noStrike">
                <a:solidFill>
                  <a:srgbClr val="006633"/>
                </a:solidFill>
                <a:latin typeface="Garamond"/>
              </a:rPr>
              <a:t> of the offen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8686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st Canadians think it's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hanging the offender's values so they will not re-off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200" spc="-1" strike="noStrike">
                <a:solidFill>
                  <a:srgbClr val="000000"/>
                </a:solidFill>
                <a:latin typeface="Arial"/>
              </a:rPr>
              <a:t>Criticism:  The fact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ut most also think that prisoners “have it easy” and don't support government spending on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s than half of the general prison population receives counselling or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ss than one third of sex offenders receive any kind of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ada's recidivism rate (the rate at which offenders re-offend) is currently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18:32:10Z</dcterms:created>
  <dc:creator>The Owner</dc:creator>
  <dc:description/>
  <dc:language>en-US</dc:language>
  <cp:lastModifiedBy>Customer</cp:lastModifiedBy>
  <dcterms:modified xsi:type="dcterms:W3CDTF">2010-11-03T18:47:07Z</dcterms:modified>
  <cp:revision>12</cp:revision>
  <dc:subject/>
  <dc:title>HSP 3M - Unit 3</dc:title>
</cp:coreProperties>
</file>